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A1B97-6866-4C84-BD55-32E61164F2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8EFBB-BB8D-443A-B1C7-CDFC1CB9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D6B0A-D8A0-43EC-AA83-AC66BA7C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79FCB-D62B-403C-9EB2-D846355110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9D08E6-4DEE-4CC2-B961-ECDD9B938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B4D73-2178-49B2-9C5F-C58149B3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C4D0B4-670C-482A-88EC-87B775DD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129D6F-079A-4DB0-A875-F70C7C29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35C5DF-0AC3-43AA-9381-9A4D8037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35E510-965B-4E7D-A89A-8F625797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20CBF7-6DA0-449D-AEEC-E4F400CC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94FBD-0CAD-49BD-B8D7-0ABD566A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E8EB4A-11B9-4DD6-AD8D-A3017DC3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5D5F88-24DA-4E18-BE4A-0C34F232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688218-E408-4591-8CD3-E1EC4D4C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906F67-A13B-4983-AC0E-680E21018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2A59AC-BA96-4155-8FFD-C2FE9C83C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FC689A-D0B7-430C-B301-EE8D52C5C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4CABB7-F350-4767-BAB7-A5B462DB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E5B5C8-C57E-4802-8BCF-43E7286F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3D1287-DF53-4B81-96B5-3CCFB899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C278E6-1F8D-48D0-91C1-B3E2EA3F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FC804-77F2-44F6-95D4-FF93986C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0C7C23-0310-47E2-B47F-5AC022DC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2C1D30-1B89-49ED-9C28-4BF674CF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981800-11B5-485C-A0A9-E2C8E580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0B3810-3607-4279-B910-470AF15D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A8C4CF-C472-4B5B-902D-3041B0AD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C43C46-7845-478F-91B1-967665F3A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564412-AC5D-4A54-8A26-9719B0025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E91FA-96F1-49B8-9A23-B53F1467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764C7-842E-44E3-8F44-5D770C2C8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9C2D4-B3E3-4233-BC88-EA6FD8C4B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8A830-E8BF-4468-9164-71B352DE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27032-7999-43C0-82D0-E81352AF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98447-12B8-4FCE-A549-D1B0CDB4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4F7E-C218-45BE-AC03-34158CE6B44D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F79C-CD40-45DA-8A27-2273D3A6F48D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3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4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95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8B8D-8858-4B8A-AFF8-6726CBDF8021}" type="slidenum">
              <a:rPr b="0" lang="en-US" sz="1400" spc="-1" strike="noStrike">
                <a:solidFill>
                  <a:srgbClr val="046ca6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25239;&#33647;&#32467;&#26680;&#33740;.MPG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9720" y="1571400"/>
            <a:ext cx="720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幼圆"/>
              </a:rPr>
              <a:t>第</a:t>
            </a:r>
            <a:r>
              <a:rPr b="1" lang="en-US" sz="6600" spc="-1" strike="noStrike">
                <a:solidFill>
                  <a:srgbClr val="000000"/>
                </a:solidFill>
                <a:latin typeface="幼圆"/>
              </a:rPr>
              <a:t>27</a:t>
            </a:r>
            <a:r>
              <a:rPr b="1" lang="zh-CN" sz="6600" spc="-1" strike="noStrike">
                <a:solidFill>
                  <a:srgbClr val="000000"/>
                </a:solidFill>
                <a:latin typeface="幼圆"/>
              </a:rPr>
              <a:t>章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071360" y="2785680"/>
            <a:ext cx="71434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幼圆"/>
              </a:rPr>
              <a:t>分枝杆菌属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幼圆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ycobacteria</a:t>
            </a:r>
            <a:r>
              <a:rPr b="0" lang="en-US" sz="5400" spc="-1" strike="noStrike">
                <a:solidFill>
                  <a:srgbClr val="000000"/>
                </a:solidFill>
                <a:latin typeface="幼圆"/>
              </a:rPr>
              <a:t>)</a:t>
            </a:r>
            <a:endParaRPr b="1" lang="en-US" sz="5400" spc="-1" strike="noStrike">
              <a:solidFill>
                <a:srgbClr val="8ac8de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</a:rPr>
              <a:t>首都医科大学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</a:rPr>
              <a:t>郑群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66564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三、微生物学检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87280" y="2492280"/>
            <a:ext cx="655344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涂片染色镜检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痰涂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抗酸染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金胺染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培养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罗氏培养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3~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基因诊断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CR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5084280"/>
            <a:ext cx="2743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检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197080" y="5229000"/>
            <a:ext cx="4578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金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罗丹明染色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64" name="Picture 4" descr="P97图8-3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4952880" cy="4641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P97图8-4"/>
          <p:cNvPicPr/>
          <p:nvPr/>
        </p:nvPicPr>
        <p:blipFill>
          <a:blip r:embed="rId2"/>
          <a:srcRect l="31350" t="0" r="25814" b="3333"/>
          <a:stretch/>
        </p:blipFill>
        <p:spPr>
          <a:xfrm>
            <a:off x="7164360" y="0"/>
            <a:ext cx="198108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auramine rhodamine stain"/>
          <p:cNvPicPr/>
          <p:nvPr/>
        </p:nvPicPr>
        <p:blipFill>
          <a:blip r:embed="rId3"/>
          <a:srcRect l="36319" t="30238" r="0" b="0"/>
          <a:stretch/>
        </p:blipFill>
        <p:spPr>
          <a:xfrm>
            <a:off x="4952880" y="0"/>
            <a:ext cx="21765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063440"/>
            <a:ext cx="46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四、防治原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03400" y="2606400"/>
            <a:ext cx="68515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预防：卡介苗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CG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治疗：抗结核药 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联合用药    药物副作用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耐药菌株的产生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8720" y="919080"/>
            <a:ext cx="746928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结核分枝杆菌小结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2034720"/>
            <a:ext cx="853416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长微弯分枝杆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抗酸阳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抵抗力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罗氏培养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型菌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长缓慢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侵袭力和毒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菌体类脂引起机体超敏反应引起结核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菌免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免疫与超敏反应共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试验可诊断结核病和测定细胞免疫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C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预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联合用药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280" y="1079640"/>
            <a:ext cx="7272360" cy="105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麻风分枝杆菌（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M.lepra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22636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形态染色：与结核杆菌相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培养：动物接种（小白鼠足垫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传播途径：直接接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呼吸道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临床分型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核样型：皮肤、黏膜、周围神经（预后较好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瘤型麻风：全身脏器（传染性强、预后差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eptosy-who4"/>
          <p:cNvPicPr/>
          <p:nvPr/>
        </p:nvPicPr>
        <p:blipFill>
          <a:blip r:embed="rId1"/>
          <a:stretch/>
        </p:blipFill>
        <p:spPr>
          <a:xfrm>
            <a:off x="539640" y="2492280"/>
            <a:ext cx="2843280" cy="4216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50440" y="1452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Mycobacterium lepra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2" descr="leprosy-who"/>
          <p:cNvPicPr/>
          <p:nvPr/>
        </p:nvPicPr>
        <p:blipFill>
          <a:blip r:embed="rId2"/>
          <a:stretch/>
        </p:blipFill>
        <p:spPr>
          <a:xfrm>
            <a:off x="3637080" y="2924280"/>
            <a:ext cx="493704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950400"/>
            <a:ext cx="484344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概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560" y="2203560"/>
            <a:ext cx="504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特点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长微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染色阳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种类及病原菌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结核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麻风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非结核分枝杆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腐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机会致病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5797440" y="1273320"/>
            <a:ext cx="3167280" cy="4937040"/>
            <a:chOff x="5797440" y="1273320"/>
            <a:chExt cx="3167280" cy="4937040"/>
          </a:xfrm>
        </p:grpSpPr>
        <p:pic>
          <p:nvPicPr>
            <p:cNvPr id="142" name="Picture 8" descr="结核杆菌抗酸染色"/>
            <p:cNvPicPr/>
            <p:nvPr/>
          </p:nvPicPr>
          <p:blipFill>
            <a:blip r:embed="rId1"/>
            <a:stretch/>
          </p:blipFill>
          <p:spPr>
            <a:xfrm>
              <a:off x="5797440" y="1273320"/>
              <a:ext cx="3099960" cy="244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9" descr="18-麻风杆菌 copy"/>
            <p:cNvPicPr/>
            <p:nvPr/>
          </p:nvPicPr>
          <p:blipFill>
            <a:blip r:embed="rId2"/>
            <a:stretch/>
          </p:blipFill>
          <p:spPr>
            <a:xfrm>
              <a:off x="5797440" y="3702240"/>
              <a:ext cx="3167280" cy="250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3640" y="112392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、生物学性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4160" y="2354400"/>
            <a:ext cx="748656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染色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染色阳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长微弯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胞壁含大量类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培养特点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专性需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长缓慢 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h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时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罗氏（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wenstei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固体培养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pH6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8,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菌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米黄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菜花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~4w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46" name="Picture 15" descr="myc-tub-dk"/>
          <p:cNvPicPr/>
          <p:nvPr/>
        </p:nvPicPr>
        <p:blipFill>
          <a:blip r:embed="rId1"/>
          <a:stretch/>
        </p:blipFill>
        <p:spPr>
          <a:xfrm>
            <a:off x="5724360" y="1268280"/>
            <a:ext cx="3348360" cy="2511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3640" y="98100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、生物学性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6560" y="2203560"/>
            <a:ext cx="82108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抵抗力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强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耐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燥、酸碱、染料（孔雀绿、结晶紫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敏感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湿热、紫外线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醇、抗结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变异性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"/>
              </a:rPr>
              <a:t>耐药性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毒力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BC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3280" y="1063440"/>
            <a:ext cx="8637840" cy="100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二、致病性与免疫性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1520" y="2111400"/>
            <a:ext cx="820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要致病物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菌体成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类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pi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磷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刺激单核细胞增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酪样坏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索状因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枝菌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破坏线粒体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慢性肉芽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硫酸脑苷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吞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蜡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迟发型超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4600" y="1279440"/>
            <a:ext cx="772776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致疾病及免疫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45680" y="2373120"/>
            <a:ext cx="83041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结核病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多途径感染，最常引起肺结核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原发感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易播散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组织损伤轻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潜伏带菌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继发感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局限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组织损伤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36240" y="13809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原发感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初次感染（外源性感染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6000" y="2017440"/>
            <a:ext cx="592308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见于儿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异性免疫尚未建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变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易扩散→原发综合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发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淋巴管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肺门淋巴结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胸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见 哑铃形阴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55" name="Picture 5" descr="18-哑铃阴影 copy"/>
          <p:cNvPicPr/>
          <p:nvPr/>
        </p:nvPicPr>
        <p:blipFill>
          <a:blip r:embed="rId1">
            <a:alphaModFix amt="49000"/>
          </a:blip>
          <a:stretch/>
        </p:blipFill>
        <p:spPr>
          <a:xfrm>
            <a:off x="6372360" y="3502080"/>
            <a:ext cx="2539800" cy="25398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08848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继发感染（原发后感染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69840" y="2346480"/>
            <a:ext cx="6631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再次感染（多为内源性感染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见于成年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异性免疫已建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变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灶局限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增殖性病变为主：结核结节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0080" y="1208160"/>
            <a:ext cx="7296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致疾病及免疫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45680" y="2301480"/>
            <a:ext cx="83041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免疫特点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菌免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免疫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免疫和超敏反应共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核菌素试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uberculin te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--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T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,PP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ngzhe</cp:lastModifiedBy>
  <dcterms:modified xsi:type="dcterms:W3CDTF">2015-08-26T05:59:43Z</dcterms:modified>
  <cp:revision>2</cp:revision>
  <dc:subject/>
  <dc:title>第27章</dc:title>
</cp:coreProperties>
</file>